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1.gif" ContentType="image/gif"/>
  <Override PartName="/ppt/media/image10.jpeg" ContentType="image/jpeg"/>
  <Override PartName="/ppt/media/image16.pct" ContentType="image/x-pict"/>
  <Override PartName="/ppt/media/image7.pct" ContentType="image/x-pict"/>
  <Override PartName="/ppt/media/image6.pct" ContentType="image/x-pict"/>
  <Override PartName="/ppt/media/image5.pct" ContentType="image/x-pict"/>
  <Override PartName="/ppt/media/image2.jpeg" ContentType="image/jpeg"/>
  <Override PartName="/ppt/media/image25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26.pct" ContentType="image/x-pict"/>
  <Override PartName="/ppt/media/image3.pct" ContentType="image/x-pict"/>
  <Override PartName="/ppt/media/image4.gif" ContentType="image/gif"/>
  <Override PartName="/ppt/media/image1.jpeg" ContentType="image/jpeg"/>
  <Override PartName="/ppt/media/image20.pct" ContentType="image/x-pict"/>
  <Override PartName="/ppt/media/image1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69A-729C-4474-815D-034973FC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D2C-539C-4C46-BB1E-474CEFEC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B7D-90B4-47DA-ABAD-217DA340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880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496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880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496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245-151A-4C89-A6B1-B0CEB5B9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5E22-E718-43D6-980F-79D6D9AC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D18A-21B6-4CD9-ADBB-8366087F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53C1-757C-47E0-9BF7-20E58448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907C-7D23-4EA2-A0A2-27F43783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BDA2-2E54-4C09-AFFC-4AE0B470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086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67BB-E59A-496A-AA21-2DBABDA0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650C-6C10-4E44-AC45-3D5BEE2F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82F-AB86-45C1-A558-21C5B3DE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0A02-9682-4B83-88CE-9492603A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0ABD-CBA0-46E5-9B4E-4C749869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FC1A-C33A-46F8-856A-A6628CBD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2948-D2F2-4B5D-A106-B7E0E912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880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496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880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496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06F6-D547-456B-A041-650AED26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5FE-DA58-4A93-A15C-B7D581D2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429-4385-4AA5-B4E1-3C78487E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03F-4B58-4BC2-B5AD-396A2888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086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FBD-022C-4FCA-8E5C-D7FAB34C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1F0-A7E1-4D45-A658-8F2260BB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205-C5D3-4183-A9CF-8E0CFC29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2B2-07F5-4B1C-902C-4D7B7445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Click to edit the title text format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3996-6D8E-464A-BDB6-1C50AAA5F50B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20570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Joink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F9A3-A014-4FC1-A940-D71D3664C039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image" Target="../media/image4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pct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.pct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8.pct"/><Relationship Id="rId1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4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ct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ct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pct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pct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pct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.pct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pct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20570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Joinks"/>
              </a:rPr>
              <a:t>Fraction Multiplication</a:t>
            </a:r>
            <a:endParaRPr b="0" lang="en-US" sz="66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3505320"/>
            <a:ext cx="4114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Fraction Multiplication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67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re are some fraction multiplication problem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n you tell how to multiply fraction from these examples?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888080" y="784080"/>
          <a:ext cx="1728720" cy="8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080" y="784080"/>
                    <a:ext cx="17287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190512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3733920" y="4657680"/>
          <a:ext cx="1752480" cy="83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657680"/>
                    <a:ext cx="175248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371600" y="2286000"/>
                <a:ext cx="21337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64000" y="3463920"/>
          <a:ext cx="2151360" cy="102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3463920"/>
                    <a:ext cx="21513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676520" y="3760920"/>
          <a:ext cx="1600200" cy="94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3760920"/>
                    <a:ext cx="160020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419720" y="2168640"/>
          <a:ext cx="1904760" cy="102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2168640"/>
                    <a:ext cx="19047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Multiplication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609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y numerator by numerato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d denominator by denominato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3720" y="1447920"/>
          <a:ext cx="2743200" cy="147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447920"/>
                    <a:ext cx="274320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190512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905120" y="3352680"/>
          <a:ext cx="3733560" cy="13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3352680"/>
                    <a:ext cx="37335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Try some.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ltiply the following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144936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4367160" y="3692520"/>
          <a:ext cx="137628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7160" y="3692520"/>
                    <a:ext cx="13762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535040" y="1639800"/>
          <a:ext cx="1501920" cy="114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35040" y="1639800"/>
                    <a:ext cx="1501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611360" y="3733920"/>
          <a:ext cx="1272960" cy="94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1360" y="3733920"/>
                    <a:ext cx="127296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064120" y="1600200"/>
          <a:ext cx="1376280" cy="102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64120" y="1600200"/>
                    <a:ext cx="13762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Answers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ltiply the following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144936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4952880" y="3733920"/>
          <a:ext cx="197640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733920"/>
                    <a:ext cx="19764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200240" y="1639800"/>
          <a:ext cx="2173320" cy="114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0240" y="1639800"/>
                    <a:ext cx="21733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295280" y="3559320"/>
          <a:ext cx="198144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3559320"/>
                    <a:ext cx="19814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572000" y="1600200"/>
          <a:ext cx="2209680" cy="114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1600200"/>
                    <a:ext cx="220968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Mixed Numbers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609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ecause of the order of operations,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ixed numbers cannot be multiplied as i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nge mixed numbers to improper fractions, then multiply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666880" y="1676520"/>
                <a:ext cx="14479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43000" y="4952880"/>
            <a:ext cx="190512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905120" y="2819520"/>
          <a:ext cx="1371600" cy="8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819520"/>
                    <a:ext cx="13716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886200" y="2819520"/>
          <a:ext cx="205740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2819520"/>
                    <a:ext cx="20574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371600" y="4191120"/>
          <a:ext cx="3962520" cy="103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191120"/>
                    <a:ext cx="39625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Try some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609120"/>
            <a:ext cx="5334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nge any whole or mixed numbers to improper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y straight across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mplify answer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144936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1523880" y="3048120"/>
          <a:ext cx="1216080" cy="83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048120"/>
                    <a:ext cx="121608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181480" y="3048120"/>
          <a:ext cx="1028880" cy="83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048120"/>
                    <a:ext cx="10288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Answers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609120"/>
            <a:ext cx="5334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nge any whole or mixed numbers to improper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y straight across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mplify answer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144936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1828800" y="2209680"/>
          <a:ext cx="361944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209680"/>
                    <a:ext cx="361944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828800" y="3886200"/>
          <a:ext cx="3143160" cy="83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886200"/>
                    <a:ext cx="31431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9:30:12Z</dcterms:created>
  <dc:creator>EITC </dc:creator>
  <dc:description/>
  <dc:language>en-US</dc:language>
  <cp:lastModifiedBy>Parkland High School</cp:lastModifiedBy>
  <dcterms:modified xsi:type="dcterms:W3CDTF">2010-11-17T16:58:19Z</dcterms:modified>
  <cp:revision>14</cp:revision>
  <dc:subject/>
  <dc:title>Silly Monster</dc:title>
</cp:coreProperties>
</file>